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EF63-3F9B-466D-85DB-77C2333FF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804F-35B4-4D16-9FEC-35B7C7747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E88224-377D-4CC6-8241-098849960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AB915B-9444-4127-94B9-DBEDDEAC9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3D2936-6784-4E8B-AEA2-F38B0AFEE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0687A8-F76A-436F-B309-CD371232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9007DB-5E2F-4328-9BBD-51671AF2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8815A4-FB59-494F-9750-5E792D58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395310-47B4-4781-962F-4D1417677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06737F-B2F6-42BD-859F-FF56420FE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23B4F9-A302-4861-9FA4-2DF01F8B7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A13D60-4ECF-47FB-B290-AF14152AB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AC0D-24D0-46B2-87CD-3175337A4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78D83F-F575-4363-83DB-F0892F9B3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5653FC-551F-4A99-8E82-68829C6CC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C7A833-4039-4237-A5B9-3577B1D19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0325BF-7161-45E9-8CE4-3308A2C92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853B31-FDC8-4B9F-9F7A-F7CFE25C1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EBC33A-AA4F-440C-ADC5-F6E2DF6A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C700F5-938E-4F96-AEDA-540F7CA9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1D5DE0-F7C7-4341-88E4-52CE55EE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AC8333-AD17-413F-BE44-8F83F4250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69F682-5000-4A7F-8CC2-CD526CBF2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FDBF-19BE-44F7-8227-793B70946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56D191-6E4B-41A9-947A-D023EE517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A87159-E7C8-4EE4-86AF-8E61358DB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4427DB-A53F-430E-9CCB-D4AFB0857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45CEFC-190A-4405-9621-44AEF271A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AB674E-8890-4A99-9269-9988D7A79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A2C62E-9FF9-492A-B66C-CDA66C0E7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3E2465-E4C8-463F-9014-E2EAB7B0F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5CC844-3FF4-46D8-A6F4-BD495AB5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1D3F4D-FDB7-4E4D-A4EF-2FE0E420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481D09-178C-43FC-9E9E-8E070524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FB3EA-7964-4982-9546-493E6ED8C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1C535F-0DFC-4F9E-9F38-DA575F4C3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71929D-6761-4993-8774-814AB7893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AF5786-ADC0-4334-9ED6-425165F38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8D1684-A18D-4CA5-88D7-0DBE54794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072ABB-DEA2-4CCC-BE17-545B1F568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D068AB-E4F4-4C4B-9917-18E22D866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863D5D-C7FC-4DFF-ACCC-E301705F9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97EB1C-CEBC-43C0-AED0-61EB9921B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A454E7-93DD-4FA9-917E-202ED16B6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337F68-0D99-4792-954F-77807DEC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C42F8-7036-4E6A-A4B9-EB180776D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436423-BEFA-4BF9-98C0-C6F6DF1A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350D9D-E5DD-4F7D-A52D-D30432EA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DE0D4B-533E-4BA9-AD24-A54AD767D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0AD3AC-6860-4796-9A7F-1D0AC7A45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3B55C9-BD44-4B3E-A4A7-A8022463B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E3D188-D46C-4EC4-814E-B839D9118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CBB4F1-756F-4A2C-8683-2B1427030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CF96F3-BF8A-4592-B03F-DC0EB7C9F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1AB3CB-96BC-479D-B162-11724CF3C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E4DBCF-C7B6-45E4-AA14-4767394BA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BF25C-1E5C-4347-9499-DF85C81A5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7B45B8-0288-4B73-9F38-4C8B53AA0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4F30A8-DA06-4BF4-8650-D88625AD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2A3524-7676-4083-99F4-B5D07B0B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6EAED5-8668-4FF4-9742-1A76EBEE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AEE2F2-4049-46E4-BD27-386D4D83B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720E8F-298F-4DB1-B001-7F0659DF7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B7A8D0-5890-43B3-87F9-A80A0B437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D346BC-761C-4B0B-A458-D33CD8297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06BB47-31A8-4083-8D26-AB4C25EA2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3C732E-AA2A-49B4-8DC7-64D762553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81C86-D605-4965-B04F-A910FA11F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0C8CB6-9DB3-4617-9010-4529E1941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C4D2F7-7064-4808-8455-7CDBF8012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BC7B0E-1F08-4A72-B14C-542071ED1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F82FC5-A9B3-477A-BBC1-F40860AC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F62148-41D4-4682-81E5-73195584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1A93A3-8470-4319-9345-478A6A4E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66CAA7-B690-46B6-B03E-5E592DF37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B4F98C-3DD3-4442-AB4F-157F9952E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0FE137-D68A-4F09-B5A1-4341B6BA2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7370F4-8B9E-4421-8776-11DA6784E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3FF49-F18A-440C-B029-0C5752AAA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C73C4B-5323-4D67-8C19-C293A34DA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A61EB3-3A21-4594-85D0-05C79FAED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7129A4-FF19-4FCB-823D-DAEBF1C7D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3F4B71-7F67-4264-96EC-3C644F202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66B4E6-2AA0-44BC-8E3D-AC8AB6265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BFB211-0CAF-4DFD-AADB-B4161B30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0902E8-6751-47AE-B0C5-1949384A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C589ED-C2B2-4271-9943-96375ABD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8B41FE-8152-4245-BEFB-E7B76F2E1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346096-C90B-4887-AD28-3272D9B0D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46CF0-5C0E-4C67-BE9C-556E204F4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9FD294-0979-4BFF-BD21-85CE04339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C433B0-0710-4AE2-B57A-8DAD5991E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56E76F-4E57-47BD-8615-34A3CF15C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4BABF0-B646-41E9-8153-7B6EA4195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6492E3-8B9A-4CB5-8218-4623AC950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84D2F9-F0B8-460A-BBD4-8ACC13A18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E34B27-A8CF-4982-B0E9-1CFBEF799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0ACB1E-CD2C-4A15-A555-F202314F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FB74D0-8EEC-4117-AC7B-26725EEF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4ECE8A-5D6F-490E-8879-6EB6D811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27B9B-3467-4BC1-B623-45F7C61F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095EEF-5CAB-4266-BA3A-72AEBCAE6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07409F-8D7E-40CA-A888-18AC1A4C8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7553BD-27FE-4553-9982-370298834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DA2D6F-1CF9-43B7-922B-3D75DA9D9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95F093-06C3-462D-8622-303543C04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5F9DD8-4859-44A7-9612-397B604F1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0B77AC-4393-46B3-8CC5-41DFAE2ED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9BAC8F-75D7-46F4-A423-4270EAF3F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E5B892-B1D6-4B29-B960-F98674CF7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E7C1E7-94CF-477C-83C9-6305F8BE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7872-FFA8-4441-AAAB-306A04ED0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1C7E9-8507-44E2-B372-D6909A69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6E9255-5F31-476F-8326-8E34BAFA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54FA66-08DD-44E3-B924-22ED46C7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1AA294-AE85-40F7-B3AB-E93EA291D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232715-F612-455F-A764-3611414CF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AE1027-61E7-461E-9E06-C9E2C17CA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BF9F81-52C0-41CF-893B-84DDFBB24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6ED913-8C6C-407C-9662-B66CFE78B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2A5190-880E-4E72-9FBA-7A2A3CE55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7BC406-1EB8-4E6B-9D55-03889DBEC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8F6A0F-42DD-408E-B513-D955A7686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907D0-41BF-495B-9DB7-BEF976F7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B5DC8A-8D8C-4286-8E96-57A8F11F0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8E8772-9C22-4E69-A92B-1D3D67D9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B0B284-7F89-48B3-AA42-B0E5F0FE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4F6819-64BE-4968-AEF9-93501D10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E64255-2C36-4C6B-A1E1-0B1C04023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E9741A-E67C-4F48-937C-980190F97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BCA787-F443-4B2C-9864-B14AB4201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F9A8F9-C68F-43D8-8426-58D378089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5D548A-994D-411E-B1B5-C4EF79082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6EC6AD-4E85-4407-BF1D-0AE59F1FF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E6949-257B-47F9-909B-322F56727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262DC5-A144-4E10-AA35-F60BC3C06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01B1D5-103F-4C81-9612-5AD81A746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235BCE-30C9-4BBA-B85D-2D178B5D4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78B455-7B45-4D1E-8261-232B5902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A0CD23-1D4D-4835-AEA0-87430188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9967CC-8A31-487A-AC81-C95A3D25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1F9DF4-46EC-42A1-BA50-728D5038A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1CFA46-6941-4D52-832A-D16EA123B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DDEC68-C56C-4029-9C14-03691C243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1D1A3F-3F8C-45E3-A5E9-B99F4E3D8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4D893-758C-4D71-979C-CB260EE9F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CDDFDE-F5A9-4624-9BE4-FA12E887E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8D4AF7-EE4F-49B2-A091-BDCE1ED81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3BAC1E-A857-4987-BFA3-6A554A2E1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B4627E-D20E-4F22-8585-1546E1827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FAE58C-987F-436A-AAE9-275CD1321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FDA80E-6275-49CA-BC9B-03DBAB18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00F3E6-1778-4662-AEEF-9A6D6338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1AF1A8-D703-4BE7-81C0-336F324D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264410-D45C-4F64-B438-24D46021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BC9937-1018-4342-8DFC-23BD7149A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5A6A9-2095-40FE-B033-35B67B4EF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C82F1D-EF3D-479E-83B5-00D274243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CA8787-6FC5-46CB-ADBF-D67F30396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EC62EC-45C3-40CD-B7A9-1EF44111E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54548F-0021-458C-984C-B66D4CE5C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C4BFA7-6A9B-4E9F-98D3-FB978518A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7C6B8A-1A56-49F0-8C8A-65F54A5A9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4294BA-6682-4918-A87D-FDA69AE0F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306A56-40CC-46AF-9E66-4DF4493D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E4C071-64EF-41D5-9FAE-4FCF70ED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2A9FD7-1EFA-4523-8065-3BA0C179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B086B-45FD-4E1F-8FF6-6F43F02E5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890BA1-FC91-4EBC-ACE4-3248436C7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A68240-98EA-4D18-AD10-447EBA3B6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3F3D97-7F7D-4F71-8FA3-6313CAAAA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4FEEA-191A-49B2-9756-422F3C2EF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2A28C-197E-4994-B4C8-51EB87216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8D593-8E23-49D8-B45B-35E2AB554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EAB24-3582-465F-8D77-624AEF694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67CC-418C-4176-9B1B-B02343142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06523-6AA7-462D-A47F-273273620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001E8-B71A-4709-8B52-3517C358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607B1-61DD-4277-A94A-06E0179B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154BC-85CE-4BD1-9F7B-E5277940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3CDDD-34BD-49E0-8B34-3D6006AA8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4DD37-2BFB-4413-811A-273522E45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E536C-9AB9-4A77-BD82-8A7179D0A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BB8FC-6E20-475E-A4CC-FCE04669E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58397-9511-455A-A0BC-C5DA6B33E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CB7AF-41EE-4AE3-8D76-FDE27AF2C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9362-B03B-4B09-B511-19F4FB7E2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E7B89-399C-4F58-8482-E12387248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37620-E9FD-4AF3-B973-F35027F27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96803-3A38-4315-98CB-F9B49A466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362D9-F962-4EA5-8F82-B5ED1F17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BF9B7-78A0-43D9-8636-4D9CF338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DDD59-927A-4A60-957B-E82B23BF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26F2D-0FB8-44A6-AC1E-7A0342D8B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35D81-38FA-4321-98FE-53B0AD6F2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BEC64-BC6F-4E28-9264-D0B16E9CF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E52BB-C87B-40D2-B051-0FCE93CCA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EC30-FEAF-4B17-B005-215EF057B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C538F-CFBF-447C-B43B-61874E973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7C0DA-547D-4B51-A530-F745B79E7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0CBED-7F56-430F-A67C-EE589F66E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1AD9B-0A4A-41AC-A466-98114555D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32C74-657C-42DC-8061-9DB88BDAF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A1687-720F-4390-B3C9-7793A209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CC6BF-0E4C-4D81-81B4-5C40F70A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3B628-AF11-4780-A34C-C7B6604A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BCD47-D794-4E12-BE6B-6D755858F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B3C63-CD61-49C8-91B6-673B57115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439D-7AEB-4D2F-80A6-4BF72CD49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344F2-638D-4920-94CA-0351295FB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DA61E-ADA3-4AE9-962A-8C09B715D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6354C-8DBB-4766-86D9-C54350CB5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FDE8B-BC1B-468D-9259-24A304604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C9782-DFC7-4978-A075-2818D22D3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3458B-E0F1-4E3C-8A4E-C70D3B432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ECBC5-2728-4EAC-923F-D4B6F21A1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1BB4D-780D-47B9-B9D1-DECAA17C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65CD7-FEAF-4E31-AFB6-4DE2EB87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1B94E-603F-48FA-B1BD-57B3C4AD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8AAB-4058-4F9E-81E3-12AEF201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F695F-4369-4C63-BB15-0B3E1B4D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02C03-8D18-466F-8767-EF8CA639F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5106B9-1910-4AF8-87FA-8E981AF06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A107E8-4E62-492D-8D2C-2AF711546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B0D1D-FC6C-46B4-B2C9-0631C8CEF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0C69E-B58D-4BE7-BFDD-4AF3DEEC4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FA7A9C-D4A4-4F57-890B-604394F2B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C1E786-C6E0-430E-8921-C105C2F4F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35DE7-DDD3-476A-AD2D-75118D6C0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73FC34-270C-4CC1-9A69-674CEDF4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093C-70FD-4D3F-8985-5DB5460F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F0B5DA-1AF5-4D06-9528-A786DA8E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FD796-E059-4F0C-8B2B-B3EC94F3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947AB9-1509-4D1A-A7BA-97917819B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852C0-761F-498B-A169-A46EB928C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B7FA3-AFE5-409B-9AA1-34F7129F4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751B73-99E9-4736-9010-2049C98D2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9F635-1D61-40E7-AAA9-09E089039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985C1D-3DFB-4290-9BA5-E64FE96B7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C25376-4FB9-4C1D-8DD4-E804FEBAF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1A98AB-9BDD-4DC0-ACBA-7EBA16A44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5F85-B91A-4C97-849D-4CFE2BA5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AB2AD-F1C3-4C2B-9675-33425939A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E908E7-2D3F-43F5-8807-7B241CDD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BC51A1-6977-466A-964F-AACB7B40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3C4B7E-3FD1-478E-AA3B-C8AFED6B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0BFA4-C8A4-443A-A616-DC390B602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4DEFB7-7A28-4FC7-8344-BC727F3E8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82429E-9876-46CD-9C64-EC3338937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BFD809-04F9-4A3E-AB80-5DAE5FD6D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A1C625-8D13-40A9-B21C-2638CD6BC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307539-D3E5-44F1-A0C7-2B26AB6AF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9539D-1137-4BBE-A863-E8E98530781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642F9-4A14-437D-B7EC-1C4166D590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BB72E-0125-4ACB-96AB-AA9685DB4F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A7945-F7A2-41A5-A500-4915130A67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E9CA3-B652-4BE6-911F-392DF16D26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38D12-5B19-4D7A-AC50-290236C4B6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AE51F-AE6E-4A98-879F-889E8A14C0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9506D-BEC2-4340-B5F0-62A1722818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FDA12-128C-4AF1-9DEB-33C52CA3E9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1E89A-BF08-463D-BF75-1515C2A23A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52DCF-F05B-40B7-BD7F-D0CC5C7016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A4470-6D80-4BC7-B097-9B9D329C70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E0BF0-C300-4E72-BFA2-E0E780F9D7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10B65-4EEB-4127-99A3-3488C1FB33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6A653-5E8A-4039-B547-A8504867A3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6E596-A5D1-4F9E-80E0-F18FFCD031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E3BAA-9FA8-4EB4-93A3-C040DDF4C7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4F79D-D31A-4C25-88BD-195F719869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3703F-6260-492B-A4A7-E770679A9AA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C53A8-86DE-4E1F-8106-DCD8222933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7D169-71FC-470A-89CF-6FAA91E327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4F23C-3311-44E9-9011-487CCAB19F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BFD85-9D1F-4973-BAC5-2155D9C229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168DE-CDFD-43CE-B0B3-E7AB6977A3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00F5D-B28A-41CF-89F2-452B47BF34C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AC60A-AAC7-4217-ACD8-D6C00EAA80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97158-1CEA-4955-A098-2EE00663C3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F3AFD-2950-4E56-86BD-A18E2E74188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75DA9-FE50-4FF8-BD5D-926A985C08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7C8A6-B4F9-4468-8C25-F0714B6D45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0E729-CFF4-4C08-9872-1E99CBD12D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4D0D2-5545-4967-8D88-88DD0DCFF0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AF901-1A29-4357-968F-00AF1A4D45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DC45F-1151-4D5C-AF4D-79F4EA60E3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8DA5B-2F3F-4B4A-8D4E-FAD09B94D0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B112A-FEDA-4DD2-97D6-7EFCF1DC44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865BC-DED4-4B07-A67A-6A76040DD3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8FCE1-F2CB-4D42-8872-EDBFB29436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373C9-7198-46E4-AE46-9160498C12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81424-5C8A-4205-B1A6-30407461ECA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286000" y="2914560"/>
            <a:ext cx="457200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图片 69633" descr=""/>
          <p:cNvPicPr/>
          <p:nvPr/>
        </p:nvPicPr>
        <p:blipFill>
          <a:blip r:embed="rId1"/>
          <a:stretch/>
        </p:blipFill>
        <p:spPr>
          <a:xfrm>
            <a:off x="461880" y="1166760"/>
            <a:ext cx="8220240" cy="452448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2"/>
          <a:stretch/>
        </p:blipFill>
        <p:spPr>
          <a:xfrm>
            <a:off x="539640" y="1239840"/>
            <a:ext cx="5184720" cy="89388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3"/>
          <a:stretch/>
        </p:blipFill>
        <p:spPr>
          <a:xfrm>
            <a:off x="539640" y="2349360"/>
            <a:ext cx="5184720" cy="89388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4"/>
          <a:stretch/>
        </p:blipFill>
        <p:spPr>
          <a:xfrm>
            <a:off x="468360" y="3486240"/>
            <a:ext cx="5184720" cy="89352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5"/>
          <a:stretch/>
        </p:blipFill>
        <p:spPr>
          <a:xfrm>
            <a:off x="395280" y="4522680"/>
            <a:ext cx="4248000" cy="49392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6"/>
          <a:stretch/>
        </p:blipFill>
        <p:spPr>
          <a:xfrm>
            <a:off x="324000" y="5157720"/>
            <a:ext cx="792000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图片 68609" descr=""/>
          <p:cNvPicPr/>
          <p:nvPr/>
        </p:nvPicPr>
        <p:blipFill>
          <a:blip r:embed="rId1"/>
          <a:stretch/>
        </p:blipFill>
        <p:spPr>
          <a:xfrm>
            <a:off x="619200" y="1871640"/>
            <a:ext cx="7905600" cy="311472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2"/>
          <a:stretch/>
        </p:blipFill>
        <p:spPr>
          <a:xfrm>
            <a:off x="395280" y="1773360"/>
            <a:ext cx="828036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47680" y="695160"/>
            <a:ext cx="8648640" cy="546768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4716360" y="3602160"/>
            <a:ext cx="1295640" cy="49356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5651640" y="4264200"/>
            <a:ext cx="1512720" cy="49356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3564000" y="5603760"/>
            <a:ext cx="100800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图片 59410" descr=""/>
          <p:cNvPicPr/>
          <p:nvPr/>
        </p:nvPicPr>
        <p:blipFill>
          <a:blip r:embed="rId1"/>
          <a:stretch/>
        </p:blipFill>
        <p:spPr>
          <a:xfrm>
            <a:off x="633240" y="776160"/>
            <a:ext cx="7877520" cy="530568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2"/>
          <a:stretch/>
        </p:blipFill>
        <p:spPr>
          <a:xfrm>
            <a:off x="3059280" y="2133720"/>
            <a:ext cx="1441440" cy="49356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3"/>
          <a:stretch/>
        </p:blipFill>
        <p:spPr>
          <a:xfrm>
            <a:off x="6659640" y="345744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4"/>
          <a:stretch/>
        </p:blipFill>
        <p:spPr>
          <a:xfrm>
            <a:off x="4716360" y="5502240"/>
            <a:ext cx="1584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图片 58373" descr=""/>
          <p:cNvPicPr/>
          <p:nvPr/>
        </p:nvPicPr>
        <p:blipFill>
          <a:blip r:embed="rId1"/>
          <a:stretch/>
        </p:blipFill>
        <p:spPr>
          <a:xfrm>
            <a:off x="281160" y="1566720"/>
            <a:ext cx="8581680" cy="37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图片 57352" descr=""/>
          <p:cNvPicPr/>
          <p:nvPr/>
        </p:nvPicPr>
        <p:blipFill>
          <a:blip r:embed="rId1"/>
          <a:stretch/>
        </p:blipFill>
        <p:spPr>
          <a:xfrm>
            <a:off x="1419120" y="1566720"/>
            <a:ext cx="6305760" cy="372456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2"/>
          <a:stretch/>
        </p:blipFill>
        <p:spPr>
          <a:xfrm>
            <a:off x="1403280" y="1557360"/>
            <a:ext cx="5689800" cy="49356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3"/>
          <a:stretch/>
        </p:blipFill>
        <p:spPr>
          <a:xfrm>
            <a:off x="1332000" y="2233440"/>
            <a:ext cx="5689440" cy="105120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4"/>
          <a:stretch/>
        </p:blipFill>
        <p:spPr>
          <a:xfrm>
            <a:off x="1187280" y="3429000"/>
            <a:ext cx="5689800" cy="49356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5"/>
          <a:stretch/>
        </p:blipFill>
        <p:spPr>
          <a:xfrm>
            <a:off x="1187280" y="4076640"/>
            <a:ext cx="5689800" cy="49392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6"/>
          <a:stretch/>
        </p:blipFill>
        <p:spPr>
          <a:xfrm>
            <a:off x="1116000" y="4738680"/>
            <a:ext cx="734364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7" name="图片 56324" descr=""/>
          <p:cNvPicPr/>
          <p:nvPr/>
        </p:nvPicPr>
        <p:blipFill>
          <a:blip r:embed="rId1"/>
          <a:stretch/>
        </p:blipFill>
        <p:spPr>
          <a:xfrm>
            <a:off x="647640" y="2119320"/>
            <a:ext cx="7848720" cy="261936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2"/>
          <a:stretch/>
        </p:blipFill>
        <p:spPr>
          <a:xfrm>
            <a:off x="900000" y="3500280"/>
            <a:ext cx="5759640" cy="49392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3"/>
          <a:stretch/>
        </p:blipFill>
        <p:spPr>
          <a:xfrm>
            <a:off x="826920" y="4164120"/>
            <a:ext cx="575964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图片 55300" descr=""/>
          <p:cNvPicPr/>
          <p:nvPr/>
        </p:nvPicPr>
        <p:blipFill>
          <a:blip r:embed="rId1"/>
          <a:stretch/>
        </p:blipFill>
        <p:spPr>
          <a:xfrm>
            <a:off x="628560" y="819000"/>
            <a:ext cx="7886880" cy="556272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2"/>
          <a:stretch/>
        </p:blipFill>
        <p:spPr>
          <a:xfrm>
            <a:off x="900000" y="2075040"/>
            <a:ext cx="6767640" cy="49356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3"/>
          <a:stretch/>
        </p:blipFill>
        <p:spPr>
          <a:xfrm>
            <a:off x="1042920" y="2722680"/>
            <a:ext cx="6767640" cy="49356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4"/>
          <a:stretch/>
        </p:blipFill>
        <p:spPr>
          <a:xfrm>
            <a:off x="826920" y="5229360"/>
            <a:ext cx="6767640" cy="49356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5"/>
          <a:stretch/>
        </p:blipFill>
        <p:spPr>
          <a:xfrm>
            <a:off x="900000" y="5819760"/>
            <a:ext cx="676764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图片 54276" descr=""/>
          <p:cNvPicPr/>
          <p:nvPr/>
        </p:nvPicPr>
        <p:blipFill>
          <a:blip r:embed="rId1"/>
          <a:stretch/>
        </p:blipFill>
        <p:spPr>
          <a:xfrm>
            <a:off x="295200" y="790560"/>
            <a:ext cx="8553600" cy="559116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2"/>
          <a:stretch/>
        </p:blipFill>
        <p:spPr>
          <a:xfrm>
            <a:off x="971640" y="3429000"/>
            <a:ext cx="5040360" cy="93672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3"/>
          <a:stretch/>
        </p:blipFill>
        <p:spPr>
          <a:xfrm>
            <a:off x="755640" y="4552920"/>
            <a:ext cx="4321080" cy="49392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4"/>
          <a:stretch/>
        </p:blipFill>
        <p:spPr>
          <a:xfrm>
            <a:off x="611280" y="5172120"/>
            <a:ext cx="4321080" cy="49356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5"/>
          <a:stretch/>
        </p:blipFill>
        <p:spPr>
          <a:xfrm>
            <a:off x="611280" y="5762520"/>
            <a:ext cx="770580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图片 52232" descr=""/>
          <p:cNvPicPr/>
          <p:nvPr/>
        </p:nvPicPr>
        <p:blipFill>
          <a:blip r:embed="rId1"/>
          <a:stretch/>
        </p:blipFill>
        <p:spPr>
          <a:xfrm>
            <a:off x="219240" y="1486080"/>
            <a:ext cx="87055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7:56:10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